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2E0D-D11B-429C-AB1F-452CC318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E42E-9B5C-43D7-B79B-B67C94B8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4837-FA3E-425A-8C29-A74A8022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C4C3-AD16-4338-BA7C-592F6A77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8BC2-6909-45CB-982E-AF9F49B0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497C-2FFC-4D63-BC7A-F9DD3604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3903-6222-4D96-9A39-5A06DB7D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C5AD-728E-4437-A845-B28B4146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6C5B-8EA7-4A3F-85A7-B8DBBC00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AC2B-B9B2-45F7-8676-E7805B97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547E-AD0F-4B89-9554-346ECF78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BC6D-7465-4D4E-9A43-1C810FFD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AFEF-FB68-4D8F-87EA-13C39FF0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54AA-FABF-4EAA-B060-196CEF52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E51A-6BCE-4D79-AC24-D31E32E9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5101-7A3A-4891-8B8C-E6D42FAB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6B59-8B42-4947-854F-923BEFB8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6A8-71CE-4E7A-8937-691A8A76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3C5E-506B-4CDD-9874-63604900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B91B-DCA7-4D31-988E-A339EA6C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0E20-2367-41CA-9629-0BC57FCA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1D3E-6EAC-4EE2-A200-4C386334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DB75-DB24-46B0-822A-377B2AC3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77C3-A064-4F0E-9323-E93CBD8E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76F3-6CB2-4CA3-9C62-0FCB5F626FC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E3AC-127C-4362-8CE9-423ABE12E92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2565000"/>
            <a:ext cx="799308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Le parole chiave del cambiamento; i nodi della rete formativa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8360" y="5589720"/>
            <a:ext cx="2808360" cy="992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724360" y="115920"/>
            <a:ext cx="33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rgamo, 1 Ottobre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11280" y="260280"/>
            <a:ext cx="3600360" cy="1368360"/>
          </a:xfrm>
          <a:prstGeom prst="cloudCallout">
            <a:avLst>
              <a:gd name="adj1" fmla="val -37259"/>
              <a:gd name="adj2" fmla="val 67287"/>
            </a:avLst>
          </a:prstGeom>
          <a:solidFill>
            <a:srgbClr val="ffef66">
              <a:alpha val="50000"/>
            </a:srgbClr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42483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Il Mode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453440" y="6093000"/>
            <a:ext cx="1690560" cy="596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1376280" y="2459160"/>
            <a:ext cx="63914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Comic Sans MS"/>
              </a:rPr>
              <a:t>La scuola è un'Istituzio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Comic Sans MS"/>
              </a:rPr>
              <a:t>finalizzata al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Comic Sans MS"/>
              </a:rPr>
              <a:t>formazione del  cittadin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11280" y="260280"/>
            <a:ext cx="3600360" cy="1368360"/>
          </a:xfrm>
          <a:prstGeom prst="cloudCallout">
            <a:avLst>
              <a:gd name="adj1" fmla="val -37259"/>
              <a:gd name="adj2" fmla="val 67287"/>
            </a:avLst>
          </a:prstGeom>
          <a:solidFill>
            <a:srgbClr val="ffef66">
              <a:alpha val="50000"/>
            </a:srgbClr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42483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Il Mode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453440" y="6093000"/>
            <a:ext cx="1690560" cy="596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95280" y="2781360"/>
            <a:ext cx="3313080" cy="2519280"/>
          </a:xfrm>
          <a:prstGeom prst="ellipse">
            <a:avLst/>
          </a:prstGeom>
          <a:solidFill>
            <a:srgbClr val="ffef66"/>
          </a:solidFill>
          <a:ln w="572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3716280"/>
            <a:ext cx="1440000" cy="433440"/>
          </a:xfrm>
          <a:prstGeom prst="rightArrow">
            <a:avLst>
              <a:gd name="adj1" fmla="val 50000"/>
              <a:gd name="adj2" fmla="val 83056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219640" y="3500280"/>
            <a:ext cx="280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Comic Sans MS"/>
              </a:rPr>
              <a:t>cittadino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11280" y="260280"/>
            <a:ext cx="3600360" cy="1368360"/>
          </a:xfrm>
          <a:prstGeom prst="cloudCallout">
            <a:avLst>
              <a:gd name="adj1" fmla="val -37259"/>
              <a:gd name="adj2" fmla="val 67287"/>
            </a:avLst>
          </a:prstGeom>
          <a:solidFill>
            <a:srgbClr val="ffef66">
              <a:alpha val="50000"/>
            </a:srgbClr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42483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Il Mode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453440" y="6093000"/>
            <a:ext cx="1690560" cy="596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611280" y="2492280"/>
            <a:ext cx="777708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Comic Sans MS"/>
              </a:rPr>
              <a:t>La scuola è un sistema formativ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Comic Sans MS"/>
              </a:rPr>
              <a:t>in rete con altri sistem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11640" y="1283760"/>
            <a:ext cx="216036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453440" y="6093000"/>
            <a:ext cx="1690560" cy="596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427640" y="3716280"/>
            <a:ext cx="28872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35280" y="371628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16360" y="414972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67280" y="4149720"/>
            <a:ext cx="28872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48000" y="422100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76720" y="465300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67280" y="3284640"/>
            <a:ext cx="288720" cy="21564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27640" y="4653000"/>
            <a:ext cx="28872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08360" y="465300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87640" y="465300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851280" y="342900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492360" y="393372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03640" y="436572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284720" y="342900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43280" y="3860640"/>
            <a:ext cx="216000" cy="28764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32360" y="436572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3500280"/>
            <a:ext cx="0" cy="64944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3850920" y="4292640"/>
            <a:ext cx="289080" cy="36036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84720" y="436572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64000" y="436572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571640" y="4292640"/>
            <a:ext cx="289080" cy="36036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51280" y="3860640"/>
            <a:ext cx="216000" cy="28764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284720" y="3789360"/>
            <a:ext cx="288720" cy="36036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479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95640" y="47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16360" y="47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484360" y="1341360"/>
            <a:ext cx="4514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Comic Sans MS"/>
              </a:rPr>
              <a:t>sistema formativo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Comic Sans MS"/>
              </a:rPr>
              <a:t>in rete con altri sistemi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Comic Sans MS"/>
              <a:ea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2411280" y="47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1640" y="4365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3789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64000" y="47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0364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16360" y="38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27640" y="3357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4000" y="33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92720" y="371628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03640" y="3284640"/>
            <a:ext cx="289080" cy="21564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80000" y="407664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40360" y="465300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71640" y="371628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4360" y="422100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635280" y="429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56000" y="429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189000"/>
            <a:ext cx="1800000" cy="647640"/>
          </a:xfrm>
          <a:prstGeom prst="cloudCallout">
            <a:avLst>
              <a:gd name="adj1" fmla="val -49027"/>
              <a:gd name="adj2" fmla="val 59069"/>
            </a:avLst>
          </a:prstGeom>
          <a:solidFill>
            <a:srgbClr val="ffef66">
              <a:alpha val="50000"/>
            </a:srgbClr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333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Il Mod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1" dur="2000" fill="hold"/>
                                        <p:tgtEl>
                                          <p:spTgt spid="2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2000" fill="hold"/>
                                        <p:tgtEl>
                                          <p:spTgt spid="20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11280" y="260280"/>
            <a:ext cx="3600360" cy="1368360"/>
          </a:xfrm>
          <a:prstGeom prst="cloudCallout">
            <a:avLst>
              <a:gd name="adj1" fmla="val -37259"/>
              <a:gd name="adj2" fmla="val 67287"/>
            </a:avLst>
          </a:prstGeom>
          <a:solidFill>
            <a:srgbClr val="ffef66">
              <a:alpha val="50000"/>
            </a:srgbClr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42483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Il Mode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453440" y="6093000"/>
            <a:ext cx="1690560" cy="5968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611280" y="2492280"/>
            <a:ext cx="777708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Comic Sans MS"/>
              </a:rPr>
              <a:t>quali propriet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Comic Sans MS"/>
              </a:rPr>
              <a:t>h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Comic Sans MS"/>
              </a:rPr>
              <a:t>questo sistema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940360" y="764640"/>
            <a:ext cx="2160720" cy="3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Il Siste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453440" y="6093000"/>
            <a:ext cx="1690560" cy="5968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692360" y="1700280"/>
            <a:ext cx="5327640" cy="3673440"/>
          </a:xfrm>
          <a:prstGeom prst="ellipse">
            <a:avLst/>
          </a:prstGeom>
          <a:solidFill>
            <a:srgbClr val="ffef66"/>
          </a:solidFill>
          <a:ln w="572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03640" y="306864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dff"/>
                </a:solidFill>
                <a:latin typeface="Comic Sans MS"/>
              </a:rPr>
              <a:t>Isolato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4000" y="189000"/>
            <a:ext cx="1800000" cy="647640"/>
          </a:xfrm>
          <a:prstGeom prst="cloudCallout">
            <a:avLst>
              <a:gd name="adj1" fmla="val -49027"/>
              <a:gd name="adj2" fmla="val 59069"/>
            </a:avLst>
          </a:prstGeom>
          <a:solidFill>
            <a:srgbClr val="ffef66">
              <a:alpha val="50000"/>
            </a:srgbClr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33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Il Mod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692360" y="1916280"/>
            <a:ext cx="5256000" cy="3528720"/>
          </a:xfrm>
          <a:prstGeom prst="ellipse">
            <a:avLst/>
          </a:prstGeom>
          <a:solidFill>
            <a:srgbClr val="ffef66"/>
          </a:solidFill>
          <a:ln w="57240">
            <a:solidFill>
              <a:srgbClr val="703d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940360" y="764640"/>
            <a:ext cx="2160720" cy="3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Il Sistema:</a:t>
            </a:r>
            <a:br>
              <a:rPr sz="2000"/>
            </a:b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- non isola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453440" y="6093000"/>
            <a:ext cx="1690560" cy="5968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843280" y="3284640"/>
            <a:ext cx="30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Permeab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189000"/>
            <a:ext cx="1800000" cy="647640"/>
          </a:xfrm>
          <a:prstGeom prst="cloudCallout">
            <a:avLst>
              <a:gd name="adj1" fmla="val -49027"/>
              <a:gd name="adj2" fmla="val 59069"/>
            </a:avLst>
          </a:prstGeom>
          <a:solidFill>
            <a:srgbClr val="ffef66">
              <a:alpha val="50000"/>
            </a:srgbClr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33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Il Mod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92360" y="1916280"/>
            <a:ext cx="5256000" cy="3528720"/>
          </a:xfrm>
          <a:prstGeom prst="ellipse">
            <a:avLst/>
          </a:prstGeom>
          <a:solidFill>
            <a:srgbClr val="ffef66"/>
          </a:solidFill>
          <a:ln w="57240">
            <a:solidFill>
              <a:srgbClr val="703d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940360" y="764640"/>
            <a:ext cx="2160720" cy="3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Il Siste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7453440" y="6093000"/>
            <a:ext cx="1690560" cy="5968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24000" y="2060640"/>
            <a:ext cx="431640" cy="287280"/>
          </a:xfrm>
          <a:custGeom>
            <a:avLst/>
            <a:gdLst>
              <a:gd name="textAreaLeft" fmla="*/ 67320 w 431640"/>
              <a:gd name="textAreaRight" fmla="*/ 378000 w 431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48360" y="4005360"/>
            <a:ext cx="431640" cy="287280"/>
          </a:xfrm>
          <a:custGeom>
            <a:avLst/>
            <a:gdLst>
              <a:gd name="textAreaLeft" fmla="*/ 67320 w 431640"/>
              <a:gd name="textAreaRight" fmla="*/ 378000 w 431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4000" y="2781360"/>
            <a:ext cx="431640" cy="287280"/>
          </a:xfrm>
          <a:custGeom>
            <a:avLst/>
            <a:gdLst>
              <a:gd name="textAreaLeft" fmla="*/ 67320 w 431640"/>
              <a:gd name="textAreaRight" fmla="*/ 378000 w 431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16360" y="4581360"/>
            <a:ext cx="432000" cy="287640"/>
          </a:xfrm>
          <a:custGeom>
            <a:avLst/>
            <a:gdLst>
              <a:gd name="textAreaLeft" fmla="*/ 67320 w 432000"/>
              <a:gd name="textAreaRight" fmla="*/ 378000 w 43200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867280" y="3355920"/>
            <a:ext cx="432000" cy="287280"/>
          </a:xfrm>
          <a:custGeom>
            <a:avLst/>
            <a:gdLst>
              <a:gd name="textAreaLeft" fmla="*/ 67320 w 432000"/>
              <a:gd name="textAreaRight" fmla="*/ 378000 w 43200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4149720"/>
            <a:ext cx="431640" cy="287280"/>
          </a:xfrm>
          <a:custGeom>
            <a:avLst/>
            <a:gdLst>
              <a:gd name="textAreaLeft" fmla="*/ 67320 w 431640"/>
              <a:gd name="textAreaRight" fmla="*/ 378000 w 431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133720"/>
            <a:ext cx="432000" cy="287280"/>
          </a:xfrm>
          <a:custGeom>
            <a:avLst/>
            <a:gdLst>
              <a:gd name="textAreaLeft" fmla="*/ 67320 w 432000"/>
              <a:gd name="textAreaRight" fmla="*/ 378000 w 43200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4724280"/>
            <a:ext cx="431640" cy="287280"/>
          </a:xfrm>
          <a:custGeom>
            <a:avLst/>
            <a:gdLst>
              <a:gd name="textAreaLeft" fmla="*/ 67320 w 431640"/>
              <a:gd name="textAreaRight" fmla="*/ 378000 w 431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35640" y="2924280"/>
            <a:ext cx="431640" cy="287280"/>
          </a:xfrm>
          <a:custGeom>
            <a:avLst/>
            <a:gdLst>
              <a:gd name="textAreaLeft" fmla="*/ 67320 w 431640"/>
              <a:gd name="textAreaRight" fmla="*/ 378000 w 431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5280" y="5084640"/>
            <a:ext cx="431640" cy="287640"/>
          </a:xfrm>
          <a:custGeom>
            <a:avLst/>
            <a:gdLst>
              <a:gd name="textAreaLeft" fmla="*/ 67320 w 431640"/>
              <a:gd name="textAreaRight" fmla="*/ 378000 w 43164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2421000"/>
            <a:ext cx="431640" cy="287280"/>
          </a:xfrm>
          <a:custGeom>
            <a:avLst/>
            <a:gdLst>
              <a:gd name="textAreaLeft" fmla="*/ 67320 w 431640"/>
              <a:gd name="textAreaRight" fmla="*/ 378000 w 431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5280" y="3645000"/>
            <a:ext cx="431640" cy="287280"/>
          </a:xfrm>
          <a:custGeom>
            <a:avLst/>
            <a:gdLst>
              <a:gd name="textAreaLeft" fmla="*/ 67320 w 431640"/>
              <a:gd name="textAreaRight" fmla="*/ 378000 w 431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" y="189000"/>
            <a:ext cx="1800000" cy="647640"/>
          </a:xfrm>
          <a:prstGeom prst="cloudCallout">
            <a:avLst>
              <a:gd name="adj1" fmla="val -49027"/>
              <a:gd name="adj2" fmla="val 59069"/>
            </a:avLst>
          </a:prstGeom>
          <a:solidFill>
            <a:srgbClr val="ffef66">
              <a:alpha val="50000"/>
            </a:srgbClr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68360" y="333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Il Mod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223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226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228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230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232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234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236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238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240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242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244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246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92360" y="1916280"/>
            <a:ext cx="5256000" cy="3528720"/>
          </a:xfrm>
          <a:prstGeom prst="ellipse">
            <a:avLst/>
          </a:prstGeom>
          <a:solidFill>
            <a:srgbClr val="ffef66"/>
          </a:solidFill>
          <a:ln w="57240">
            <a:solidFill>
              <a:srgbClr val="703d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11640" y="1341360"/>
            <a:ext cx="2160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Il Sistema:</a:t>
            </a:r>
            <a:br>
              <a:rPr sz="2000"/>
            </a:b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- non isolato</a:t>
            </a:r>
            <a:br>
              <a:rPr sz="2000"/>
            </a:b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- permeabi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7453440" y="6093000"/>
            <a:ext cx="1690560" cy="5968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843280" y="3284640"/>
            <a:ext cx="30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Permeab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9280" y="3500280"/>
            <a:ext cx="1440000" cy="433440"/>
          </a:xfrm>
          <a:prstGeom prst="rightArrow">
            <a:avLst>
              <a:gd name="adj1" fmla="val 50000"/>
              <a:gd name="adj2" fmla="val 83056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9280" y="256536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Istanze sociali e cultur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87280" y="1989000"/>
            <a:ext cx="1440000" cy="433440"/>
          </a:xfrm>
          <a:prstGeom prst="rightArrow">
            <a:avLst>
              <a:gd name="adj1" fmla="val 50000"/>
              <a:gd name="adj2" fmla="val 83056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4360" y="17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n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11280" y="4797360"/>
            <a:ext cx="1439640" cy="433440"/>
          </a:xfrm>
          <a:prstGeom prst="rightArrow">
            <a:avLst>
              <a:gd name="adj1" fmla="val 50000"/>
              <a:gd name="adj2" fmla="val 83036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0920" y="42210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Risorse econom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4000" y="189000"/>
            <a:ext cx="1800000" cy="647640"/>
          </a:xfrm>
          <a:prstGeom prst="cloudCallout">
            <a:avLst>
              <a:gd name="adj1" fmla="val -49027"/>
              <a:gd name="adj2" fmla="val 59069"/>
            </a:avLst>
          </a:prstGeom>
          <a:solidFill>
            <a:srgbClr val="ffef66">
              <a:alpha val="50000"/>
            </a:srgbClr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5280" y="33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Il Mod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8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692360" y="1916280"/>
            <a:ext cx="5256000" cy="3528720"/>
          </a:xfrm>
          <a:prstGeom prst="ellipse">
            <a:avLst/>
          </a:prstGeom>
          <a:solidFill>
            <a:srgbClr val="ffef66"/>
          </a:solidFill>
          <a:ln w="57240">
            <a:solidFill>
              <a:srgbClr val="703d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11640" y="1341360"/>
            <a:ext cx="2160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Il Sistema:</a:t>
            </a:r>
            <a:br>
              <a:rPr sz="2000"/>
            </a:b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- non isolato</a:t>
            </a:r>
            <a:br>
              <a:rPr sz="2000"/>
            </a:b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- permeabi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7453440" y="6093000"/>
            <a:ext cx="1690560" cy="5968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843280" y="2349360"/>
            <a:ext cx="30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organizz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9280" y="3500280"/>
            <a:ext cx="1440000" cy="433440"/>
          </a:xfrm>
          <a:prstGeom prst="rightArrow">
            <a:avLst>
              <a:gd name="adj1" fmla="val 50000"/>
              <a:gd name="adj2" fmla="val 83056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9280" y="256536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Istanze sociali e cultur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87280" y="1989000"/>
            <a:ext cx="1440000" cy="433440"/>
          </a:xfrm>
          <a:prstGeom prst="rightArrow">
            <a:avLst>
              <a:gd name="adj1" fmla="val 50000"/>
              <a:gd name="adj2" fmla="val 83056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4360" y="17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n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4797360"/>
            <a:ext cx="1439640" cy="433440"/>
          </a:xfrm>
          <a:prstGeom prst="rightArrow">
            <a:avLst>
              <a:gd name="adj1" fmla="val 50000"/>
              <a:gd name="adj2" fmla="val 83036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0920" y="42210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Risorse econom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427640" y="3716280"/>
            <a:ext cx="28872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635280" y="371628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414972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67280" y="4149720"/>
            <a:ext cx="28872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48000" y="422100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465300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067280" y="3284640"/>
            <a:ext cx="288720" cy="21564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27640" y="4653000"/>
            <a:ext cx="28872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708360" y="465300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987640" y="465300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851280" y="342900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3492360" y="393372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203640" y="436572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84720" y="342900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643280" y="3860640"/>
            <a:ext cx="216000" cy="28764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32360" y="436572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211640" y="3500280"/>
            <a:ext cx="0" cy="64944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850920" y="4292640"/>
            <a:ext cx="289080" cy="36036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284720" y="436572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564000" y="436572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571640" y="4292640"/>
            <a:ext cx="289080" cy="36036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51280" y="3860640"/>
            <a:ext cx="216000" cy="28764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4284720" y="3789360"/>
            <a:ext cx="288720" cy="36036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76720" y="479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95640" y="47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716360" y="47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4000" y="189000"/>
            <a:ext cx="1800000" cy="647640"/>
          </a:xfrm>
          <a:prstGeom prst="cloudCallout">
            <a:avLst>
              <a:gd name="adj1" fmla="val -49027"/>
              <a:gd name="adj2" fmla="val 59069"/>
            </a:avLst>
          </a:prstGeom>
          <a:solidFill>
            <a:srgbClr val="ffef66">
              <a:alpha val="50000"/>
            </a:srgbClr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33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Il Mod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5" dur="2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 cura di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M. Jacono, D. Arrigoni, M. Tes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640" y="2565360"/>
            <a:ext cx="7199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memoria: la legge istituti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li “occhiali” per leggere il   cambiamento nel temp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parole chia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problemi aper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6804000" y="6076800"/>
            <a:ext cx="1793880" cy="6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200"/>
                                </p:to>
                              </p:animCl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200"/>
                                </p:to>
                              </p:animCl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2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" dur="1" fill="hold"/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2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692360" y="1916280"/>
            <a:ext cx="5256000" cy="3528720"/>
          </a:xfrm>
          <a:prstGeom prst="ellipse">
            <a:avLst/>
          </a:prstGeom>
          <a:solidFill>
            <a:srgbClr val="ffef66"/>
          </a:solidFill>
          <a:ln w="57240">
            <a:solidFill>
              <a:srgbClr val="703d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11640" y="1341360"/>
            <a:ext cx="2160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Il Sistema:</a:t>
            </a:r>
            <a:br>
              <a:rPr sz="2000"/>
            </a:b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- non isolato</a:t>
            </a:r>
            <a:br>
              <a:rPr sz="2000"/>
            </a:b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- permeabi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7453440" y="6093000"/>
            <a:ext cx="1690560" cy="5968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2843280" y="2349360"/>
            <a:ext cx="30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organizz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9280" y="3500280"/>
            <a:ext cx="1440000" cy="433440"/>
          </a:xfrm>
          <a:prstGeom prst="rightArrow">
            <a:avLst>
              <a:gd name="adj1" fmla="val 50000"/>
              <a:gd name="adj2" fmla="val 83056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79280" y="256536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Istanze sociali e cultur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87280" y="1989000"/>
            <a:ext cx="1440000" cy="433440"/>
          </a:xfrm>
          <a:prstGeom prst="rightArrow">
            <a:avLst>
              <a:gd name="adj1" fmla="val 50000"/>
              <a:gd name="adj2" fmla="val 83056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17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n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1280" y="4797360"/>
            <a:ext cx="1439640" cy="433440"/>
          </a:xfrm>
          <a:prstGeom prst="rightArrow">
            <a:avLst>
              <a:gd name="adj1" fmla="val 50000"/>
              <a:gd name="adj2" fmla="val 83036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0920" y="42210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Risorse econom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427640" y="3716280"/>
            <a:ext cx="28872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635280" y="371628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16360" y="414972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067280" y="4149720"/>
            <a:ext cx="28872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348000" y="422100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076720" y="465300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067280" y="3284640"/>
            <a:ext cx="288720" cy="21564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27640" y="4653000"/>
            <a:ext cx="28872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708360" y="465300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987640" y="4653000"/>
            <a:ext cx="289080" cy="2160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851280" y="342900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492360" y="393372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203640" y="436572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76720" y="479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95640" y="47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716360" y="47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203640" y="4365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3492360" y="3933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851280" y="342900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56000" y="342900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43280" y="3860640"/>
            <a:ext cx="144720" cy="28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003640" y="436572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356000" y="436572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24360" y="3860640"/>
            <a:ext cx="144360" cy="28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35280" y="436572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4284720" y="3933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3924360" y="4365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572000" y="4365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635280" y="429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356000" y="429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51280" y="38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4000" y="189000"/>
            <a:ext cx="1800000" cy="647640"/>
          </a:xfrm>
          <a:prstGeom prst="cloudCallout">
            <a:avLst>
              <a:gd name="adj1" fmla="val -49027"/>
              <a:gd name="adj2" fmla="val 59069"/>
            </a:avLst>
          </a:prstGeom>
          <a:solidFill>
            <a:srgbClr val="ffef66">
              <a:alpha val="50000"/>
            </a:srgbClr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9640" y="33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Il Mod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2" dur="2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0" dur="2000" fill="hold"/>
                                        <p:tgtEl>
                                          <p:spTgt spid="3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3" dur="2000" fill="hold"/>
                                        <p:tgtEl>
                                          <p:spTgt spid="3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9000"/>
                            </p:stCondLst>
                            <p:childTnLst>
                              <p:par>
                                <p:cTn id="30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6" dur="2000" fill="hold"/>
                                        <p:tgtEl>
                                          <p:spTgt spid="3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9" dur="2000" fill="hold"/>
                                        <p:tgtEl>
                                          <p:spTgt spid="3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2" dur="2000" fill="hold"/>
                                        <p:tgtEl>
                                          <p:spTgt spid="3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5" dur="2000" fill="hold"/>
                                        <p:tgtEl>
                                          <p:spTgt spid="3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0" fill="hold"/>
                                        <p:tgtEl>
                                          <p:spTgt spid="3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1" dur="2000" fill="hold"/>
                                        <p:tgtEl>
                                          <p:spTgt spid="3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4" dur="2000" fill="hold"/>
                                        <p:tgtEl>
                                          <p:spTgt spid="3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3000"/>
                            </p:stCondLst>
                            <p:childTnLst>
                              <p:par>
                                <p:cTn id="3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7" dur="2000" fill="hold"/>
                                        <p:tgtEl>
                                          <p:spTgt spid="3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692360" y="1916280"/>
            <a:ext cx="5256000" cy="3528720"/>
          </a:xfrm>
          <a:prstGeom prst="ellipse">
            <a:avLst/>
          </a:prstGeom>
          <a:solidFill>
            <a:srgbClr val="ffef66"/>
          </a:solidFill>
          <a:ln w="57240">
            <a:solidFill>
              <a:srgbClr val="703d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11640" y="1341360"/>
            <a:ext cx="2160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Il Sistema:</a:t>
            </a:r>
            <a:br>
              <a:rPr sz="2000"/>
            </a:b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- non isolato</a:t>
            </a:r>
            <a:br>
              <a:rPr sz="2000"/>
            </a:b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- permeabile</a:t>
            </a:r>
            <a:br>
              <a:rPr sz="2000"/>
            </a:b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- organizza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7453440" y="6093000"/>
            <a:ext cx="1690560" cy="5968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2843280" y="234936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comples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9280" y="3500280"/>
            <a:ext cx="1440000" cy="433440"/>
          </a:xfrm>
          <a:prstGeom prst="rightArrow">
            <a:avLst>
              <a:gd name="adj1" fmla="val 50000"/>
              <a:gd name="adj2" fmla="val 83056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9280" y="256536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Istanze sociali e cultur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87280" y="1989000"/>
            <a:ext cx="1440000" cy="433440"/>
          </a:xfrm>
          <a:prstGeom prst="rightArrow">
            <a:avLst>
              <a:gd name="adj1" fmla="val 50000"/>
              <a:gd name="adj2" fmla="val 83056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84360" y="17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n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1280" y="4797360"/>
            <a:ext cx="1439640" cy="433440"/>
          </a:xfrm>
          <a:prstGeom prst="rightArrow">
            <a:avLst>
              <a:gd name="adj1" fmla="val 50000"/>
              <a:gd name="adj2" fmla="val 83036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0920" y="42210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Risorse econom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851280" y="342900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492360" y="393372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203640" y="4365720"/>
            <a:ext cx="216000" cy="287280"/>
          </a:xfrm>
          <a:prstGeom prst="line">
            <a:avLst/>
          </a:prstGeom>
          <a:ln w="1260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276720" y="479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95640" y="47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716360" y="47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3203640" y="4365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492360" y="3933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851280" y="342900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42900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643280" y="3860640"/>
            <a:ext cx="144720" cy="28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003640" y="436572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356000" y="436572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924360" y="3860640"/>
            <a:ext cx="144360" cy="28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635280" y="436572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4284720" y="3933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924360" y="4365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4572000" y="4365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635280" y="429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356000" y="429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851280" y="38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4000" y="189000"/>
            <a:ext cx="1800000" cy="647640"/>
          </a:xfrm>
          <a:prstGeom prst="cloudCallout">
            <a:avLst>
              <a:gd name="adj1" fmla="val -49027"/>
              <a:gd name="adj2" fmla="val 59069"/>
            </a:avLst>
          </a:prstGeom>
          <a:solidFill>
            <a:srgbClr val="ffef66">
              <a:alpha val="50000"/>
            </a:srgbClr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39640" y="333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Il Mod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9" dur="2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55280" y="28440"/>
            <a:ext cx="6870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7342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Sistema scolastico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7093080" y="6021360"/>
            <a:ext cx="1431720" cy="5065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755640" y="1844640"/>
            <a:ext cx="75614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2001"/>
              </a:spcBef>
              <a:buClr>
                <a:srgbClr val="703dff"/>
              </a:buClr>
              <a:buFont typeface="Comic Sans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n isolato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- permeabil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- organizz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mple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80" y="450864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Varia nel tem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0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692360" y="1916280"/>
            <a:ext cx="5256000" cy="3528720"/>
          </a:xfrm>
          <a:prstGeom prst="ellipse">
            <a:avLst/>
          </a:prstGeom>
          <a:solidFill>
            <a:srgbClr val="ffef66"/>
          </a:solidFill>
          <a:ln w="57240">
            <a:solidFill>
              <a:srgbClr val="703d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40360" y="981000"/>
            <a:ext cx="2160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Il Sistema si trasfor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7453440" y="6093000"/>
            <a:ext cx="1690560" cy="59688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324000" y="2060640"/>
            <a:ext cx="431640" cy="287280"/>
          </a:xfrm>
          <a:custGeom>
            <a:avLst/>
            <a:gdLst>
              <a:gd name="textAreaLeft" fmla="*/ 67320 w 431640"/>
              <a:gd name="textAreaRight" fmla="*/ 378000 w 431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148360" y="4005360"/>
            <a:ext cx="431640" cy="287280"/>
          </a:xfrm>
          <a:custGeom>
            <a:avLst/>
            <a:gdLst>
              <a:gd name="textAreaLeft" fmla="*/ 67320 w 431640"/>
              <a:gd name="textAreaRight" fmla="*/ 378000 w 431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24000" y="2781360"/>
            <a:ext cx="431640" cy="287280"/>
          </a:xfrm>
          <a:custGeom>
            <a:avLst/>
            <a:gdLst>
              <a:gd name="textAreaLeft" fmla="*/ 67320 w 431640"/>
              <a:gd name="textAreaRight" fmla="*/ 378000 w 431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716360" y="4581360"/>
            <a:ext cx="432000" cy="287640"/>
          </a:xfrm>
          <a:custGeom>
            <a:avLst/>
            <a:gdLst>
              <a:gd name="textAreaLeft" fmla="*/ 67320 w 432000"/>
              <a:gd name="textAreaRight" fmla="*/ 378000 w 43200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3355920"/>
            <a:ext cx="432000" cy="287280"/>
          </a:xfrm>
          <a:custGeom>
            <a:avLst/>
            <a:gdLst>
              <a:gd name="textAreaLeft" fmla="*/ 67320 w 432000"/>
              <a:gd name="textAreaRight" fmla="*/ 378000 w 43200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50920" y="4149720"/>
            <a:ext cx="431640" cy="287280"/>
          </a:xfrm>
          <a:custGeom>
            <a:avLst/>
            <a:gdLst>
              <a:gd name="textAreaLeft" fmla="*/ 67320 w 431640"/>
              <a:gd name="textAreaRight" fmla="*/ 378000 w 431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076720" y="2133720"/>
            <a:ext cx="432000" cy="287280"/>
          </a:xfrm>
          <a:custGeom>
            <a:avLst/>
            <a:gdLst>
              <a:gd name="textAreaLeft" fmla="*/ 67320 w 432000"/>
              <a:gd name="textAreaRight" fmla="*/ 378000 w 43200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4724280"/>
            <a:ext cx="431640" cy="287280"/>
          </a:xfrm>
          <a:custGeom>
            <a:avLst/>
            <a:gdLst>
              <a:gd name="textAreaLeft" fmla="*/ 67320 w 431640"/>
              <a:gd name="textAreaRight" fmla="*/ 378000 w 431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435640" y="2924280"/>
            <a:ext cx="431640" cy="287280"/>
          </a:xfrm>
          <a:custGeom>
            <a:avLst/>
            <a:gdLst>
              <a:gd name="textAreaLeft" fmla="*/ 67320 w 431640"/>
              <a:gd name="textAreaRight" fmla="*/ 378000 w 431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5280" y="5084640"/>
            <a:ext cx="431640" cy="287640"/>
          </a:xfrm>
          <a:custGeom>
            <a:avLst/>
            <a:gdLst>
              <a:gd name="textAreaLeft" fmla="*/ 67320 w 431640"/>
              <a:gd name="textAreaRight" fmla="*/ 378000 w 43164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2421000"/>
            <a:ext cx="431640" cy="287280"/>
          </a:xfrm>
          <a:custGeom>
            <a:avLst/>
            <a:gdLst>
              <a:gd name="textAreaLeft" fmla="*/ 67320 w 431640"/>
              <a:gd name="textAreaRight" fmla="*/ 378000 w 431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5280" y="3645000"/>
            <a:ext cx="431640" cy="287280"/>
          </a:xfrm>
          <a:custGeom>
            <a:avLst/>
            <a:gdLst>
              <a:gd name="textAreaLeft" fmla="*/ 67320 w 431640"/>
              <a:gd name="textAreaRight" fmla="*/ 378000 w 431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24000" y="189000"/>
            <a:ext cx="1800000" cy="647640"/>
          </a:xfrm>
          <a:prstGeom prst="cloudCallout">
            <a:avLst>
              <a:gd name="adj1" fmla="val -49027"/>
              <a:gd name="adj2" fmla="val 59069"/>
            </a:avLst>
          </a:prstGeom>
          <a:solidFill>
            <a:srgbClr val="ffef66">
              <a:alpha val="50000"/>
            </a:srgbClr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8360" y="333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Il Mod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979640" y="5516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base ai flu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380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evt="end">
                                        <p:tn val="379"/>
                                      </p:cond>
                                    </p:stCondLst>
                                  </p:cTn>
                                  <p:tgtEl>
                                    <p:spTgt spid="4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384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386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388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390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392" dur="2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394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396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398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400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402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500"/>
                            </p:stCondLst>
                            <p:childTnLst>
                              <p:par>
                                <p:cTn id="404" nodeType="after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77778E-006 0.00023 L 0.27569 0.00023 E">
                                      <p:cBhvr>
                                        <p:cTn id="405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75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692360" y="2492280"/>
            <a:ext cx="4103640" cy="2952720"/>
          </a:xfrm>
          <a:prstGeom prst="ellipse">
            <a:avLst/>
          </a:prstGeom>
          <a:solidFill>
            <a:srgbClr val="ffef66"/>
          </a:solidFill>
          <a:ln w="57240">
            <a:solidFill>
              <a:srgbClr val="703d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300720" y="1916280"/>
            <a:ext cx="2160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Il Sistema:</a:t>
            </a:r>
            <a:br>
              <a:rPr sz="2000"/>
            </a:b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- non isolato</a:t>
            </a:r>
            <a:br>
              <a:rPr sz="2000"/>
            </a:b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- permeabile</a:t>
            </a:r>
            <a:br>
              <a:rPr sz="2000"/>
            </a:b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- organizzato</a:t>
            </a:r>
            <a:br>
              <a:rPr sz="2000"/>
            </a:b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- comples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7453440" y="6093000"/>
            <a:ext cx="1690560" cy="59688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971640" y="3860640"/>
            <a:ext cx="718920" cy="289080"/>
          </a:xfrm>
          <a:prstGeom prst="rightArrow">
            <a:avLst>
              <a:gd name="adj1" fmla="val 50000"/>
              <a:gd name="adj2" fmla="val 62173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8360" y="33577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200"/>
                </a:solidFill>
                <a:latin typeface="Comic Sans MS"/>
              </a:rPr>
              <a:t>Istanze sociali e cul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763640" y="2492280"/>
            <a:ext cx="863640" cy="217440"/>
          </a:xfrm>
          <a:prstGeom prst="rightArrow">
            <a:avLst>
              <a:gd name="adj1" fmla="val 50000"/>
              <a:gd name="adj2" fmla="val 99296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87280" y="2205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n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547640" y="4941720"/>
            <a:ext cx="719280" cy="289080"/>
          </a:xfrm>
          <a:prstGeom prst="rightArrow">
            <a:avLst>
              <a:gd name="adj1" fmla="val 50000"/>
              <a:gd name="adj2" fmla="val 62204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84360" y="44370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Risorse econom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4000" y="189000"/>
            <a:ext cx="1800000" cy="647640"/>
          </a:xfrm>
          <a:prstGeom prst="cloudCallout">
            <a:avLst>
              <a:gd name="adj1" fmla="val -49027"/>
              <a:gd name="adj2" fmla="val 59069"/>
            </a:avLst>
          </a:prstGeom>
          <a:solidFill>
            <a:srgbClr val="ffef66">
              <a:alpha val="50000"/>
            </a:srgbClr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5280" y="33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Il Mod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796000" y="3716280"/>
            <a:ext cx="719280" cy="289080"/>
          </a:xfrm>
          <a:prstGeom prst="rightArrow">
            <a:avLst>
              <a:gd name="adj1" fmla="val 50000"/>
              <a:gd name="adj2" fmla="val 62204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443640" y="3645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516720" y="3429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ittad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451640" y="4076640"/>
            <a:ext cx="0" cy="2016360"/>
          </a:xfrm>
          <a:prstGeom prst="line">
            <a:avLst/>
          </a:prstGeom>
          <a:ln w="1908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468360" y="6093000"/>
            <a:ext cx="6912000" cy="0"/>
          </a:xfrm>
          <a:prstGeom prst="line">
            <a:avLst/>
          </a:prstGeom>
          <a:ln w="1908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68360" y="4076280"/>
            <a:ext cx="0" cy="2016360"/>
          </a:xfrm>
          <a:prstGeom prst="line">
            <a:avLst/>
          </a:prstGeom>
          <a:ln w="1908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68360" y="4076640"/>
            <a:ext cx="503280" cy="0"/>
          </a:xfrm>
          <a:prstGeom prst="line">
            <a:avLst/>
          </a:prstGeom>
          <a:ln w="1908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468360" y="2636640"/>
            <a:ext cx="0" cy="1439640"/>
          </a:xfrm>
          <a:prstGeom prst="line">
            <a:avLst/>
          </a:prstGeom>
          <a:ln w="1908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68360" y="2637000"/>
            <a:ext cx="1295280" cy="0"/>
          </a:xfrm>
          <a:prstGeom prst="line">
            <a:avLst/>
          </a:prstGeom>
          <a:ln w="1908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68360" y="5157720"/>
            <a:ext cx="1008000" cy="0"/>
          </a:xfrm>
          <a:prstGeom prst="line">
            <a:avLst/>
          </a:prstGeom>
          <a:ln w="1908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050920" y="364500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egol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500"/>
                            </p:stCondLst>
                            <p:childTnLst>
                              <p:par>
                                <p:cTn id="4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500"/>
                            </p:stCondLst>
                            <p:childTnLst>
                              <p:par>
                                <p:cTn id="4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500"/>
                            </p:stCondLst>
                            <p:childTnLst>
                              <p:par>
                                <p:cTn id="4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55280" y="28440"/>
            <a:ext cx="6870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7342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Sistema scolastico che varia nel temp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7093080" y="6021360"/>
            <a:ext cx="1431720" cy="5065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95280" y="2276640"/>
            <a:ext cx="87487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it-IT" sz="3200" spc="-1" strike="noStrike" u="sng">
                <a:solidFill>
                  <a:srgbClr val="ffff00"/>
                </a:solidFill>
                <a:uFillTx/>
                <a:latin typeface="Comic Sans MS"/>
              </a:rPr>
              <a:t>permeabile</a:t>
            </a: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:           aperto/chiuso dipendenza/autoreferenzialità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- </a:t>
            </a:r>
            <a:r>
              <a:rPr b="0" lang="it-IT" sz="3200" spc="-1" strike="noStrike" u="sng">
                <a:solidFill>
                  <a:srgbClr val="ffff00"/>
                </a:solidFill>
                <a:uFillTx/>
                <a:latin typeface="Comic Sans MS"/>
              </a:rPr>
              <a:t>organizzato</a:t>
            </a: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:             flessibile/rigido </a:t>
            </a:r>
            <a:r>
              <a:rPr b="0" lang="it-IT" sz="3200" spc="-1" strike="noStrike" u="sng">
                <a:solidFill>
                  <a:srgbClr val="ffff00"/>
                </a:solidFill>
                <a:uFillTx/>
                <a:latin typeface="Comic Sans MS"/>
              </a:rPr>
              <a:t>autonomia</a:t>
            </a: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/dipend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                                  </a:t>
            </a:r>
            <a:r>
              <a:rPr b="0" lang="it-IT" sz="3200" spc="-1" strike="noStrike" u="sng">
                <a:solidFill>
                  <a:srgbClr val="ffff00"/>
                </a:solidFill>
                <a:uFillTx/>
                <a:latin typeface="Comic Sans MS"/>
              </a:rPr>
              <a:t>GEST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635280" y="2637000"/>
            <a:ext cx="57636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35280" y="4292640"/>
            <a:ext cx="57636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35280" y="5445000"/>
            <a:ext cx="57636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"/>
                            </p:stCondLst>
                            <p:childTnLst>
                              <p:par>
                                <p:cTn id="46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75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250"/>
                            </p:stCondLst>
                            <p:childTnLst>
                              <p:par>
                                <p:cTn id="47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25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75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4250"/>
                            </p:stCondLst>
                            <p:childTnLst>
                              <p:par>
                                <p:cTn id="4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55280" y="28440"/>
            <a:ext cx="6870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7342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Sistema scolastico che varia nel temp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7093080" y="6021360"/>
            <a:ext cx="1431720" cy="5065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179280" y="2349360"/>
            <a:ext cx="874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it-IT" sz="3200" spc="-1" strike="noStrike" u="sng">
                <a:solidFill>
                  <a:srgbClr val="ffff00"/>
                </a:solidFill>
                <a:uFillTx/>
                <a:latin typeface="Comic Sans MS"/>
              </a:rPr>
              <a:t>Complesso</a:t>
            </a: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                      relazioni             democratico/gerarchico, autocentrico/eterocent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ffff00"/>
                </a:solidFill>
                <a:uFillTx/>
                <a:latin typeface="Comic Sans MS"/>
              </a:rPr>
              <a:t>Regolato</a:t>
            </a: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                         flu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Auto/eteroregol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                        </a:t>
            </a: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Conformità/non conform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                        </a:t>
            </a:r>
            <a:r>
              <a:rPr b="0" lang="it-IT" sz="3200" spc="-1" strike="noStrike" u="sng">
                <a:solidFill>
                  <a:srgbClr val="ffff00"/>
                </a:solidFill>
                <a:uFillTx/>
                <a:latin typeface="Comic Sans MS"/>
              </a:rPr>
              <a:t>Gestione soc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635280" y="2708280"/>
            <a:ext cx="57636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419640" y="4724280"/>
            <a:ext cx="57600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000"/>
                            </p:stCondLst>
                            <p:childTnLst>
                              <p:par>
                                <p:cTn id="5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3500"/>
                            </p:stCondLst>
                            <p:childTnLst>
                              <p:par>
                                <p:cTn id="5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4000"/>
                            </p:stCondLst>
                            <p:childTnLst>
                              <p:par>
                                <p:cTn id="5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lla premessa alla legge istituti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734220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…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..L’istruzione è </a:t>
            </a:r>
            <a:r>
              <a:rPr b="1" i="1" lang="en-US" sz="2400" spc="-1" strike="noStrike">
                <a:solidFill>
                  <a:srgbClr val="00b200"/>
                </a:solidFill>
                <a:latin typeface="Comic Sans MS"/>
              </a:rPr>
              <a:t>gratuita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                             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ed </a:t>
            </a:r>
            <a:r>
              <a:rPr b="1" i="1" lang="en-US" sz="2400" spc="-1" strike="noStrike">
                <a:solidFill>
                  <a:srgbClr val="00b200"/>
                </a:solidFill>
                <a:latin typeface="Comic Sans MS"/>
              </a:rPr>
              <a:t>obbligatoria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093080" y="6021360"/>
            <a:ext cx="143172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" dur="1" fill="hold"/>
                                  <p:tgtEl>
                                    <p:spTgt spid="1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’istruzione gratuita ed obbligator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278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703dff"/>
                </a:solidFill>
                <a:latin typeface="Comic Sans MS"/>
              </a:rPr>
              <a:t>…</a:t>
            </a:r>
            <a:r>
              <a:rPr b="0" lang="it-IT" sz="2800" spc="-1" strike="noStrike">
                <a:solidFill>
                  <a:srgbClr val="703dff"/>
                </a:solidFill>
                <a:latin typeface="Comic Sans MS"/>
              </a:rPr>
              <a:t>..Concorre a promuovere</a:t>
            </a:r>
            <a:r>
              <a:rPr b="0" lang="it-IT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b200"/>
                </a:solidFill>
                <a:latin typeface="Comic Sans MS"/>
              </a:rPr>
              <a:t>               </a:t>
            </a:r>
            <a:r>
              <a:rPr b="0" lang="it-IT" sz="2800" spc="-1" strike="noStrike">
                <a:solidFill>
                  <a:srgbClr val="00b200"/>
                </a:solidFill>
                <a:latin typeface="Comic Sans MS"/>
              </a:rPr>
              <a:t>la </a:t>
            </a:r>
            <a:r>
              <a:rPr b="1" i="1" lang="it-IT" sz="2800" spc="-1" strike="noStrike">
                <a:solidFill>
                  <a:srgbClr val="00b200"/>
                </a:solidFill>
                <a:latin typeface="Comic Sans MS"/>
              </a:rPr>
              <a:t>formazione dell’uom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b200"/>
                </a:solidFill>
                <a:latin typeface="Comic Sans MS"/>
              </a:rPr>
              <a:t>                      </a:t>
            </a:r>
            <a:r>
              <a:rPr b="0" lang="it-IT" sz="2800" spc="-1" strike="noStrike">
                <a:solidFill>
                  <a:srgbClr val="00b200"/>
                </a:solidFill>
                <a:latin typeface="Comic Sans MS"/>
              </a:rPr>
              <a:t>e del </a:t>
            </a:r>
            <a:r>
              <a:rPr b="1" i="1" lang="it-IT" sz="2800" spc="-1" strike="noStrike">
                <a:solidFill>
                  <a:srgbClr val="00b200"/>
                </a:solidFill>
                <a:latin typeface="Comic Sans MS"/>
              </a:rPr>
              <a:t>cittadino…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877080" y="5932440"/>
            <a:ext cx="15048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1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’istruzione gratuita ed obbligator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2707920"/>
            <a:ext cx="8134200" cy="18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…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..Favorisce </a:t>
            </a:r>
            <a:r>
              <a:rPr b="1" i="1" lang="en-US" sz="2800" spc="-1" strike="noStrike">
                <a:solidFill>
                  <a:srgbClr val="00b200"/>
                </a:solidFill>
                <a:latin typeface="Comic Sans MS"/>
              </a:rPr>
              <a:t>l’orientamento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                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dei giovani…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020000" y="6021360"/>
            <a:ext cx="16174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" dur="1" fill="hold"/>
                                  <p:tgtEl>
                                    <p:spTgt spid="1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Le parole chiav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3772080" cy="1573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877080" y="6093000"/>
            <a:ext cx="169056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2133720"/>
            <a:ext cx="68709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truzio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79640" y="115920"/>
            <a:ext cx="3771720" cy="1573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11280" y="393372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m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43280" y="393372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ienta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92360" y="5300640"/>
            <a:ext cx="46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ittadi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732720" y="6021360"/>
            <a:ext cx="169200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95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450"/>
                            </p:stCondLst>
                            <p:childTnLst>
                              <p:par>
                                <p:cTn id="1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1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2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Le parole chiav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772080" cy="1573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877080" y="6093000"/>
            <a:ext cx="1690560" cy="5968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835280" y="4292640"/>
            <a:ext cx="655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Valgono ancora oggi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Qual è il l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5013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significato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mph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1" dur="indefinite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2" dur="indefinite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5" dur="1" fill="hold"/>
                                  <p:tgtEl>
                                    <p:spTgt spid="1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Le parole chiav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1971720" cy="8222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877080" y="6093000"/>
            <a:ext cx="1690560" cy="596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55640" y="2349360"/>
            <a:ext cx="7345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Per “ dare “ il significato è necess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Costruire il cont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Per costruire il contesto è necess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Definire un modello di let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4" dur="1" fill="hold"/>
                                  <p:tgtEl>
                                    <p:spTgt spid="1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6:59:11Z</dcterms:created>
  <dc:creator>MARCELLA</dc:creator>
  <dc:description/>
  <dc:language>en-US</dc:language>
  <cp:lastModifiedBy>MARCELLA</cp:lastModifiedBy>
  <dcterms:modified xsi:type="dcterms:W3CDTF">2003-09-30T20:37:37Z</dcterms:modified>
  <cp:revision>96</cp:revision>
  <dc:subject/>
  <dc:title>Le parole chiave del cambiamento; i nodi della rete formativa</dc:title>
</cp:coreProperties>
</file>